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7BF-B6EC-4872-960B-BA43D906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D8C-3D79-4DB0-BFE8-0B71DD57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030-DFCB-4C97-A8B4-278D8C84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B25-38CC-4C3B-9323-4954D603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EBCA-2CBF-440F-8B26-45079088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F801-F427-463A-8968-7FC1E24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40D5-DFCE-4FAF-ABF4-6436F58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4ABB-C0B9-4B04-A554-E571A81C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AC0C-9CE4-42A9-ADFF-AAF31A59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BAA0-B29C-465D-A218-72930F8A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5E81-E07B-42AB-A66C-D0E9948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C18-BC24-4CF5-8702-686C6159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054F-2666-4EE1-953C-5DB10F8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AE68-B1B5-4ADE-8F6F-B673364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9A9A-7E00-42BF-9085-4B80CE85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AAB-3DD5-40AA-AD16-4EA6B485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8467-BA59-4D09-ABAD-ED837F6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B9D-8159-45A4-A184-C04A72C6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D23-C5E1-44DE-A978-3C7C2DCF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089-9E1C-46D5-A3FF-690C0654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21F-A651-4D0C-A052-EFC234B7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E5F-CEF7-40FB-89D0-4C0FA0EC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C65-D341-48AD-B895-5DF8217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082-74C7-48C0-91C6-72DF1BC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5AC7-8E32-44D0-B357-9D07E96593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159D-01D5-4B8E-A436-3C86D3D316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Monotype Corsiva"/>
              </a:rPr>
              <a:t>Проект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Monotype Corsiva"/>
              </a:rPr>
              <a:t>« Дело в шляпе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Monotype Corsiva"/>
              </a:rPr>
              <a:t>Средняя группа «Солнышко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Monotype Corsiva"/>
              </a:rPr>
              <a:t>Март 2013г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Monotype Corsiva"/>
              </a:rPr>
              <a:t>Руководитель Жагурина Г.Н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Вхождение в проблем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048360" cy="41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История происхождения шляп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192720" cy="417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Monotype Corsiva"/>
              </a:rPr>
              <a:t>               </a:t>
            </a:r>
            <a:r>
              <a:rPr b="1" lang="en-US" sz="3200" spc="-1" strike="noStrike">
                <a:solidFill>
                  <a:srgbClr val="006666"/>
                </a:solidFill>
                <a:latin typeface="Monotype Corsiva"/>
              </a:rPr>
              <a:t>Бумажная мозаика «Шляпа для куклы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1800" y="2362320"/>
            <a:ext cx="2968920" cy="200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31800" y="4508640"/>
            <a:ext cx="2968920" cy="208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54720" y="4508640"/>
            <a:ext cx="3078000" cy="20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54720" y="2362320"/>
            <a:ext cx="3004920" cy="200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               </a:t>
            </a: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Шляпки своими рук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3256200" cy="2144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54720" y="2362320"/>
            <a:ext cx="2933640" cy="214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31800" y="4724280"/>
            <a:ext cx="325620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54720" y="4724280"/>
            <a:ext cx="307800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  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« Игры с шляпам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31800" y="2362320"/>
            <a:ext cx="3111480" cy="2003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54720" y="2362320"/>
            <a:ext cx="3294000" cy="2003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31800" y="4581360"/>
            <a:ext cx="3111480" cy="208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454720" y="4508640"/>
            <a:ext cx="3220920" cy="216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    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« Парад шляп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24504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3173760" cy="20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3240000" cy="201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240000" cy="2087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2:06:41Z</dcterms:created>
  <dc:creator>HomeUser</dc:creator>
  <dc:description/>
  <dc:language>en-US</dc:language>
  <cp:lastModifiedBy>HOME</cp:lastModifiedBy>
  <dcterms:modified xsi:type="dcterms:W3CDTF">2017-02-13T08:42:39Z</dcterms:modified>
  <cp:revision>3</cp:revision>
  <dc:subject/>
  <dc:title>Проект « Дело в шляпе»</dc:title>
</cp:coreProperties>
</file>